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D0CC-4525-4B54-882D-106E1B25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83B9-8BF8-4FE6-87BF-AFDAB069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DA1C-866A-479C-9E39-41E8110F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4646-7664-4867-BD68-CCF8B6AF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31D4-E21A-4E4C-BE92-4BBB906F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CC94-B2CB-4398-B880-791A6A6E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C0D4-2305-4F82-9528-FF1766D5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99C-0279-4BC8-9C20-C6F210C1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854-3E71-4A54-92F7-22964020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4E3-4D48-468C-9F60-9439F893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C2F0-88D1-47C6-9E52-991D7268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2454-47E6-4AF6-90E4-950BFFA8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A97F-E506-451E-988D-6F0111F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9703-279E-4812-BD3E-360E72D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B7C5-9143-4C5F-BC32-38C42475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DF56-EF36-440F-9A92-AB57209F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47A-69AA-4333-BF69-CD58FEB2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0314-E12D-4857-9D2B-8FD9640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DD7D-0952-4718-9F81-FCB1E588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FACD-E840-4B26-92C1-70F24CD0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F677-2863-4193-BC73-3A6ACF30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9B3C-CE73-4E69-9E4B-F0F5A44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8ACB-5866-4258-A400-3B593E3E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6AD5-3FAF-4C53-9E48-7967380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E426-3E05-497C-8913-B0C41EDF8D4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D5C1-FD10-4265-A452-DE155D509A5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4280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отвори врата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ион да вляза т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то радостно душа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 среща в Твоя храм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лажено място 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но с мир, весели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812520"/>
            <a:ext cx="914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, аз при Тебе и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ри мен и Ти ел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то Тебе аз намер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небе е, не земя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лей в сърце ми Твоя ми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 на нов живот и 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8000" y="205920"/>
            <a:ext cx="9036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за Твоя само сл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ем семето Ти днес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а в нас се умнож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лодоносни класов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ивай щедър в благода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Дух пречист и св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8000" y="205920"/>
            <a:ext cx="9036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вори да чуем, Бож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 сладък, бащин гл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Твойта воля мож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владее между н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душата ни хра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небесни добри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2T15:24:45Z</dcterms:modified>
  <cp:revision>7</cp:revision>
  <dc:subject/>
  <dc:title>Slide 1</dc:title>
</cp:coreProperties>
</file>